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3668-3FEC-42E1-8A72-97548F31A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0000" y="442296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C9AA-69EC-4F42-A5EC-183572A8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634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0497-B0DE-4831-B1B4-A06FC9992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356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6676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6000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356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6676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1F41-D742-4EAF-B4B7-6B0584B33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DAB9-AAF9-47A6-A1BF-475591D5E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0104-4FBD-4CB9-8506-FD372F28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09DC-0746-4645-957E-68ACF788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0A06-DF1F-4478-A3BA-3D2E371D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410D-60C2-4352-9BDC-123ED1CD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60000" y="360360"/>
            <a:ext cx="9358200" cy="41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7178-2C5F-47EC-981A-69B9B043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7174-F482-4D74-867B-14226B67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5F5B-6665-4A71-A11B-BDD37D90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6840-F5E6-4697-A408-BF0B1881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0381-7EBA-4F10-8F84-00622AD4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0000" y="442296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F42A-AE2D-4470-BF54-F2E621AF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DDDA-AB2E-4784-B2A7-B42929B4C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356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6676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6000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356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6676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4267-13D0-465B-880E-9D8BB5267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068E-0886-4CB9-81CA-A844DC4C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354F-F80C-41AB-9CC7-62FCC0E4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E9DE-586B-4FB3-B15E-7FF31FFC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60000" y="360360"/>
            <a:ext cx="9358200" cy="41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325A-7B23-42DF-A9D3-F95A79A7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B276-C31E-4385-B86F-9906021E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34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C4AE-493F-4178-840E-631BBB27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FE38-7926-47A7-93AD-3C28C1FB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79280"/>
            <a:ext cx="9720360" cy="126072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" name=""/>
          <p:cNvSpPr/>
          <p:nvPr/>
        </p:nvSpPr>
        <p:spPr>
          <a:xfrm>
            <a:off x="7559640" y="6840360"/>
            <a:ext cx="2519280" cy="5400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" name=""/>
          <p:cNvSpPr/>
          <p:nvPr/>
        </p:nvSpPr>
        <p:spPr>
          <a:xfrm>
            <a:off x="900000" y="6840360"/>
            <a:ext cx="6480360" cy="540000"/>
          </a:xfrm>
          <a:prstGeom prst="rect">
            <a:avLst/>
          </a:prstGeom>
          <a:solidFill>
            <a:srgbClr val="bdc3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"/>
          <p:cNvSpPr/>
          <p:nvPr/>
        </p:nvSpPr>
        <p:spPr>
          <a:xfrm>
            <a:off x="179280" y="6840360"/>
            <a:ext cx="540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Click to edit the outline text format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1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con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2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Thir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3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our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4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if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5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ix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6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ven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559640" y="6840000"/>
            <a:ext cx="233856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2400" spc="-1" strike="noStrike">
                <a:solidFill>
                  <a:srgbClr val="ffffff"/>
                </a:solidFill>
                <a:latin typeface="Source Sans Pro Black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Source Sans Pro Blac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079280" y="6840000"/>
            <a:ext cx="323820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2400" spc="-1" strike="noStrike">
                <a:solidFill>
                  <a:srgbClr val="ffffff"/>
                </a:solidFill>
                <a:latin typeface="Source Sans Pro Black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Source Sans Pro Black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178920" y="684000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it-IT" sz="2400" spc="-1" strike="noStrike">
                <a:solidFill>
                  <a:srgbClr val="ffffff"/>
                </a:solidFill>
                <a:latin typeface="Source Sans Pro Black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654A4A6-2B68-43AE-A3F7-61E6AB3F4280}" type="slidenum">
              <a:rPr b="1" lang="it-IT" sz="2400" spc="-1" strike="noStrike">
                <a:solidFill>
                  <a:srgbClr val="ffffff"/>
                </a:solidFill>
                <a:latin typeface="Source Sans Pro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3149640"/>
            <a:ext cx="9720360" cy="12603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000" y="333072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39280" y="4680000"/>
            <a:ext cx="9178920" cy="25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marL="226080" indent="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Click to edit the outline text format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1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con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2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Thir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3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our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4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if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5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ix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6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ven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559640" y="6840000"/>
            <a:ext cx="233856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2400" spc="-1" strike="noStrike">
                <a:solidFill>
                  <a:srgbClr val="e74c3c"/>
                </a:solidFill>
                <a:latin typeface="Source Sans Pro Black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e74c3c"/>
                </a:solidFill>
                <a:latin typeface="Source Sans Pro Blac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079280" y="6840000"/>
            <a:ext cx="323820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2400" spc="-1" strike="noStrike">
                <a:solidFill>
                  <a:srgbClr val="e74c3c"/>
                </a:solidFill>
                <a:latin typeface="Source Sans Pro Black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e74c3c"/>
                </a:solidFill>
                <a:latin typeface="Source Sans Pro Black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78920" y="6840000"/>
            <a:ext cx="53820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it-IT" sz="2400" spc="-1" strike="noStrike">
                <a:solidFill>
                  <a:srgbClr val="e74c3c"/>
                </a:solidFill>
                <a:latin typeface="Source Sans Pro Black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5D155F0-76E0-42EC-A7AB-D4B9BA885412}" type="slidenum">
              <a:rPr b="1" lang="it-IT" sz="2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0360" y="333072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L’applicativo ‘SSAM - Spatial Sustainability</a:t>
            </a:r>
            <a:br>
              <a:rPr sz="3200"/>
            </a:b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Assessment Model’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207280" y="2879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01520" y="4500720"/>
            <a:ext cx="3200400" cy="1230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138720" y="4584600"/>
            <a:ext cx="2968920" cy="1030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87280" y="6983280"/>
            <a:ext cx="61912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ource Sans Pro"/>
              </a:rPr>
              <a:t>Gianluca Massei ### Perugia 29 – 30 maggio 2019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2" name=""/>
          <p:cNvSpPr/>
          <p:nvPr/>
        </p:nvSpPr>
        <p:spPr>
          <a:xfrm>
            <a:off x="287280" y="792000"/>
            <a:ext cx="928836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kkoPro-Regular"/>
                <a:ea typeface="AkkoPro-Regular"/>
              </a:rPr>
              <a:t>Giornate di formazione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300" spc="-1" strike="noStrike">
                <a:solidFill>
                  <a:srgbClr val="000000"/>
                </a:solidFill>
                <a:latin typeface="AkkoPro-Regular"/>
                <a:ea typeface="AkkoPro-Regular"/>
              </a:rPr>
              <a:t>Modelli di Valutazione Territoriale</a:t>
            </a:r>
            <a:endParaRPr b="0" lang="en-US" sz="33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79640" y="2101680"/>
            <a:ext cx="7920000" cy="444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83DD-172F-47C3-A1E9-6196FAD3634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Barre della sostenibilità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36560" y="1647720"/>
            <a:ext cx="8672400" cy="468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11CE-A8DC-4E80-81BD-FC3589C8A56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Bolle della sostenibilità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27160" y="1839960"/>
            <a:ext cx="7962840" cy="45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70EE-460D-48A7-B83F-CBFBDD86A04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Cartogramma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16120" y="1979640"/>
            <a:ext cx="6469200" cy="468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3B05-4852-4AF3-B9F1-E6559A127CD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Estrazione delle regole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6000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84040" y="1577880"/>
            <a:ext cx="9356760" cy="504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E3E2-95C5-4243-901B-B740D8F6882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Grazie dell’attenzione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6000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22" name=""/>
          <p:cNvSpPr/>
          <p:nvPr/>
        </p:nvSpPr>
        <p:spPr>
          <a:xfrm>
            <a:off x="824040" y="3489480"/>
            <a:ext cx="856764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ource Sans Pro"/>
              </a:rPr>
              <a:t>Licenza Creative Commons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ource Sans Pro"/>
              </a:rPr>
              <a:t>Quest'opera è distribuita con Licenza Creative Commons Attribuzione 4.0 Internazionale.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44640" y="35323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9779-F2B0-4325-AD6B-889229F6B2F5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Installazione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31640" y="1728720"/>
            <a:ext cx="8999640" cy="497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321E-8B74-42D6-8BAF-C4799A2787B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Avvio di SSAM ed applicazione del modello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0360" y="1584360"/>
            <a:ext cx="9180360" cy="400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097D-D2BB-4FD6-9D37-5D51DB3106D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Setting del plugin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340000" y="1619280"/>
            <a:ext cx="498960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89F7-F2F5-4021-9938-1E83DB5D009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Indicatori ambientali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340000" y="1619280"/>
            <a:ext cx="498312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7A0A-0BBF-4A30-AF85-D29F1A74018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Indicatori ecoonomici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40000" y="1619280"/>
            <a:ext cx="498960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4D7F-C1DE-4CA2-B839-5EEE41CC3A0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Indicatori sociali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40000" y="1619280"/>
            <a:ext cx="498960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B31A-D3AE-4075-BC97-AB3FCE66C58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Analisi dei risultati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340000" y="1619280"/>
            <a:ext cx="498960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B695-3133-4019-B032-1C06455B0D5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Mappe della sostenibilità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000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079640" y="2101680"/>
            <a:ext cx="8283600" cy="468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F88B-D594-4FE7-922E-14386A18C96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8T16:26:21Z</dcterms:created>
  <dc:creator/>
  <dc:description/>
  <dc:language>en-US</dc:language>
  <cp:lastModifiedBy/>
  <dcterms:modified xsi:type="dcterms:W3CDTF">2019-05-28T20:35:22Z</dcterms:modified>
  <cp:revision>10</cp:revision>
  <dc:subject/>
  <dc:title>Alizarin</dc:title>
</cp:coreProperties>
</file>