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E55-519F-477E-A743-E0970491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984-03DA-4C5F-ACA3-CF524D7B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230-9A29-4255-9C37-EC151D0F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EEC-CE25-44D8-86C3-DAF25099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5BA5-BB36-4F5E-938C-E07571B2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5BAC-A005-4A01-9651-09309526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5088-2114-4B20-9680-76E19183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A101-BA12-467F-83EF-540AC3F4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A772-9AC7-4F1D-B9BA-424F59DB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7A3F-8612-4A52-B1A8-3E8D4A0C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1CC0-6B29-45E1-8FC3-C9FE1120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9FA-5406-43C1-A9F3-5872DD4A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8956-FCF9-4814-9742-B514D048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9BAC-60E3-4669-97A3-CC667313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F4D4-7AD3-4840-A245-FE983439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C675-BF1F-4ADC-A60B-0D9E2B9F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6898-31FE-410E-8A3D-9BE66841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06C-15F6-4DD4-8037-129CC4F8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DA5-E9DF-415F-AC4E-34FF39BF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918-6FB1-4853-B8D2-5F2A631E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E5E-A6F7-4228-870B-2181E36E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33F-53B9-43A3-B748-ECE6BBF2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EDC-7681-49EA-B62E-05C2147A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16C-E135-42F3-B64D-903A3031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1" name="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2" name="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3" name="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559640" y="684000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F211AE0-FF31-4665-A46F-25C6EEA07581}" type="slidenum">
              <a:rPr b="1" lang="it-IT" sz="24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33072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4680000"/>
            <a:ext cx="917892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559640" y="6840000"/>
            <a:ext cx="2338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it-IT" sz="2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DA1E902-DBA0-428F-8BA1-D31CCAC523C3}" type="slidenum">
              <a:rPr b="1" lang="it-IT" sz="2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360" y="333072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L’applicativo ‘SSAM - Spatial Sustainability</a:t>
            </a:r>
            <a:br>
              <a:rPr sz="3200"/>
            </a:b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ssessment Model’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07280" y="2879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1520" y="4500720"/>
            <a:ext cx="3200400" cy="1230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138720" y="4584600"/>
            <a:ext cx="2968920" cy="1030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7280" y="6983280"/>
            <a:ext cx="6191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Gianluca Massei ### Perugia 29 – 30 maggio 2019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sp>
        <p:nvSpPr>
          <p:cNvPr id="92" name=""/>
          <p:cNvSpPr/>
          <p:nvPr/>
        </p:nvSpPr>
        <p:spPr>
          <a:xfrm>
            <a:off x="287280" y="792000"/>
            <a:ext cx="92883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kkoPro-Regular"/>
                <a:ea typeface="AkkoPro-Regular"/>
              </a:rPr>
              <a:t>Giornate di formazione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300" spc="-1" strike="noStrike">
                <a:solidFill>
                  <a:srgbClr val="000000"/>
                </a:solidFill>
                <a:latin typeface="AkkoPro-Regular"/>
                <a:ea typeface="AkkoPro-Regular"/>
              </a:rPr>
              <a:t>Modelli di Valutazione Territoriale</a:t>
            </a:r>
            <a:endParaRPr b="0" lang="en-US" sz="3300" spc="-1" strike="noStrike">
              <a:solidFill>
                <a:srgbClr val="000000"/>
              </a:solidFill>
              <a:latin typeface="Source Sans Pr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79640" y="2101680"/>
            <a:ext cx="7920000" cy="44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92E-9A33-4C18-ADC7-A4087A3383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Barr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6560" y="1647720"/>
            <a:ext cx="86724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B5E-2F84-49B7-86D4-5C62A0E06C8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Boll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27160" y="1839960"/>
            <a:ext cx="7962840" cy="45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32C-C86A-4E96-B945-BFD577E61FE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Cartogramma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16120" y="1979640"/>
            <a:ext cx="6469200" cy="468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868-4108-4726-96D3-280CDBC2AED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Estrazione delle regol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4040" y="1577880"/>
            <a:ext cx="9356760" cy="50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CAB-5DDC-4248-B9CD-EE763B0BA25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Grazie dell’attenzion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2" name=""/>
          <p:cNvSpPr/>
          <p:nvPr/>
        </p:nvSpPr>
        <p:spPr>
          <a:xfrm>
            <a:off x="824040" y="3489480"/>
            <a:ext cx="856764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Licenza Creative Commons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ource Sans Pro"/>
              </a:rPr>
              <a:t>Quest'opera è distribuita con Licenza Creative Commons Attribuzione 4.0 Internazionale.</a:t>
            </a:r>
            <a:endParaRPr b="0" lang="en-US" sz="1800" spc="-1" strike="noStrike">
              <a:solidFill>
                <a:srgbClr val="000000"/>
              </a:solidFill>
              <a:latin typeface="Source Sans 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44640" y="35323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FFC-40E3-4FC5-8EF8-AE8930F478C9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stallazion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1640" y="1728720"/>
            <a:ext cx="8999640" cy="497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AA1-FFEC-4A87-A0FA-DF418FB0FF4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vvio di SSAM ed applicazione del modello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0360" y="1584360"/>
            <a:ext cx="9180360" cy="400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F12-0C86-4DA4-A0CB-DF7D65BC55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Setting del plugin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928-633A-47AE-B78C-07E65706C1C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ambiental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312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039-466E-48BC-83EB-17AF9A0028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ecoonomic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07D9-897A-48A2-B8BD-FBBA2EC13ED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Indicatori social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1A0-9912-4512-B8C3-E8768BCF11A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Analisi dei risultati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0000" y="1619280"/>
            <a:ext cx="49896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FBC8-5B30-4A40-A4DD-E5FADE59C0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Source Sans Pro Black"/>
              </a:rPr>
              <a:t>Mappe della sostenibilità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79640" y="2101680"/>
            <a:ext cx="8283600" cy="46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8C8B-2A82-407D-B359-8B7FE017CFC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8T16:26:21Z</dcterms:created>
  <dc:creator/>
  <dc:description/>
  <dc:language>en-US</dc:language>
  <cp:lastModifiedBy/>
  <dcterms:modified xsi:type="dcterms:W3CDTF">2019-05-28T20:35:22Z</dcterms:modified>
  <cp:revision>10</cp:revision>
  <dc:subject/>
  <dc:title>Alizarin</dc:title>
</cp:coreProperties>
</file>