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1A40-B325-4384-8699-0DB3DD7FA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0000" y="442296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2ADC-667A-41EB-A266-ED12C526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634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DBCF-83BF-4603-98A6-2970F4A97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356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6676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6000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356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6676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550E-A8A3-48FA-B958-24AB4E73A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369A7-0AA6-42AB-918B-C6B67C17E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60000" y="1979280"/>
            <a:ext cx="91789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7789-21E0-49AA-9D48-0D69AC71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89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350B6-032C-4A44-88D9-D360AE27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BBA82-23FE-44D9-ACEC-E371B2D2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DA9B-1AED-4EB4-A091-1555653B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60000" y="360360"/>
            <a:ext cx="9358200" cy="41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CE0C-85B3-4487-A8F1-2C07A6C0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E630-5DDB-4E8E-9EC3-EECDBA22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60000" y="1979280"/>
            <a:ext cx="91789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001A-9D55-4B42-BDAC-78E9E5B6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34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0747-1329-4CD6-9E96-1F8155A4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E76A7-E7C4-4EA0-AC0D-DB9ECCEC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0000" y="442296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57B9-CDA3-49F7-A7DD-AA4A5F21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34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0EDE-32D7-491A-B486-79B15A5B0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356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6676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6000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356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6676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00B4-B080-4BE2-86FE-6B9CABB64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89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88C9-4F34-41F4-A26F-CCCF4A10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A497-BFC4-4F6F-9311-85CBD820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5027-744D-4DEA-9E1B-C05D678A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60000" y="360360"/>
            <a:ext cx="9358200" cy="41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E95F-3970-42E9-91B0-D1A0E737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338D-E84C-40CE-A189-A80834AC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634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7586-4027-425F-9325-CC4888F2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54F8-D55D-46B4-8D91-54475AB0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79280"/>
            <a:ext cx="9720360" cy="126072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" name=""/>
          <p:cNvSpPr/>
          <p:nvPr/>
        </p:nvSpPr>
        <p:spPr>
          <a:xfrm>
            <a:off x="7559640" y="6840360"/>
            <a:ext cx="2519280" cy="5400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" name=""/>
          <p:cNvSpPr/>
          <p:nvPr/>
        </p:nvSpPr>
        <p:spPr>
          <a:xfrm>
            <a:off x="900000" y="6840360"/>
            <a:ext cx="6480360" cy="540000"/>
          </a:xfrm>
          <a:prstGeom prst="rect">
            <a:avLst/>
          </a:prstGeom>
          <a:solidFill>
            <a:srgbClr val="bdc3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"/>
          <p:cNvSpPr/>
          <p:nvPr/>
        </p:nvSpPr>
        <p:spPr>
          <a:xfrm>
            <a:off x="179280" y="6840360"/>
            <a:ext cx="540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60000" y="1979280"/>
            <a:ext cx="91789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Click to edit the outline text format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1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con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2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Thir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3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our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4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if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5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ix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6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ven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559640" y="6840000"/>
            <a:ext cx="233856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it-IT" sz="2400" spc="-1" strike="noStrike">
                <a:solidFill>
                  <a:srgbClr val="ffffff"/>
                </a:solidFill>
                <a:latin typeface="Source Sans Pro Black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Source Sans Pro Blac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079280" y="6840000"/>
            <a:ext cx="323820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it-IT" sz="2400" spc="-1" strike="noStrike">
                <a:solidFill>
                  <a:srgbClr val="ffffff"/>
                </a:solidFill>
                <a:latin typeface="Source Sans Pro Black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Source Sans Pro Black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178920" y="6840000"/>
            <a:ext cx="538200" cy="5382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it-IT" sz="2400" spc="-1" strike="noStrike">
                <a:solidFill>
                  <a:srgbClr val="ffffff"/>
                </a:solidFill>
                <a:latin typeface="Source Sans Pro Black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716856C-6CD5-4EAA-B889-9A730CC4A34A}" type="slidenum">
              <a:rPr b="1" lang="it-IT" sz="2400" spc="-1" strike="noStrike">
                <a:solidFill>
                  <a:srgbClr val="ffffff"/>
                </a:solidFill>
                <a:latin typeface="Source Sans Pro Black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3149640"/>
            <a:ext cx="9720360" cy="12603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0000" y="333072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39280" y="4680000"/>
            <a:ext cx="9178920" cy="25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marL="226080" indent="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Click to edit the outline text format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1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con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2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Thir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3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our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4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if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5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ix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6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ven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559640" y="6840000"/>
            <a:ext cx="233856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it-IT" sz="2400" spc="-1" strike="noStrike">
                <a:solidFill>
                  <a:srgbClr val="e74c3c"/>
                </a:solidFill>
                <a:latin typeface="Source Sans Pro Black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e74c3c"/>
                </a:solidFill>
                <a:latin typeface="Source Sans Pro Blac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1079280" y="6840000"/>
            <a:ext cx="323820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it-IT" sz="2400" spc="-1" strike="noStrike">
                <a:solidFill>
                  <a:srgbClr val="e74c3c"/>
                </a:solidFill>
                <a:latin typeface="Source Sans Pro Black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e74c3c"/>
                </a:solidFill>
                <a:latin typeface="Source Sans Pro Black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178920" y="6840000"/>
            <a:ext cx="53820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it-IT" sz="2400" spc="-1" strike="noStrike">
                <a:solidFill>
                  <a:srgbClr val="e74c3c"/>
                </a:solidFill>
                <a:latin typeface="Source Sans Pro Black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5037B7B-9EBF-455F-A0BF-33691A11BE32}" type="slidenum">
              <a:rPr b="1" lang="it-IT" sz="2400" spc="-1" strike="noStrike">
                <a:solidFill>
                  <a:srgbClr val="e74c3c"/>
                </a:solidFill>
                <a:latin typeface="Source Sans Pro Black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0360" y="333072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L’applicativo ‘SSAM - Spatial Sustainability</a:t>
            </a:r>
            <a:br>
              <a:rPr sz="3200"/>
            </a:b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Assessment Model’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207280" y="2879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01520" y="4500720"/>
            <a:ext cx="3200400" cy="1230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138720" y="4584600"/>
            <a:ext cx="2968920" cy="10303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87280" y="6983280"/>
            <a:ext cx="61912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ource Sans Pro"/>
              </a:rPr>
              <a:t>Gianluca Massei ### Perugia 29 – 30 maggio 2019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2" name=""/>
          <p:cNvSpPr/>
          <p:nvPr/>
        </p:nvSpPr>
        <p:spPr>
          <a:xfrm>
            <a:off x="287280" y="792000"/>
            <a:ext cx="928836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kkoPro-Regular"/>
                <a:ea typeface="AkkoPro-Regular"/>
              </a:rPr>
              <a:t>Giornate di formazione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300" spc="-1" strike="noStrike">
                <a:solidFill>
                  <a:srgbClr val="000000"/>
                </a:solidFill>
                <a:latin typeface="AkkoPro-Regular"/>
                <a:ea typeface="AkkoPro-Regular"/>
              </a:rPr>
              <a:t>Modelli di Valutazione Territoriale</a:t>
            </a:r>
            <a:endParaRPr b="0" lang="en-US" sz="33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79640" y="2101680"/>
            <a:ext cx="7920000" cy="4449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83E0-2AA3-40BF-9DF9-1D04D0ACE14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Barre della sostenibilità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36560" y="1647720"/>
            <a:ext cx="8672400" cy="468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1AF2-9C9D-4849-87C5-8B8C1A53EE5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Bolle della sostenibilità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27160" y="1839960"/>
            <a:ext cx="7962840" cy="454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6108-DD61-409E-BFF3-D3D6C39EF15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Cartogramma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16120" y="1979640"/>
            <a:ext cx="6469200" cy="468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2C15-8F6D-4046-B369-8F05FCE2531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Estrazione delle regole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6000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84040" y="1577880"/>
            <a:ext cx="9356760" cy="504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D4C1-59A3-4E1D-86E0-3635B7AF632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Grazie dell’attenzione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6000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22" name=""/>
          <p:cNvSpPr/>
          <p:nvPr/>
        </p:nvSpPr>
        <p:spPr>
          <a:xfrm>
            <a:off x="824040" y="3489480"/>
            <a:ext cx="856764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ource Sans Pro"/>
              </a:rPr>
              <a:t>Licenza Creative Commons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ource Sans Pro"/>
              </a:rPr>
              <a:t>Quest'opera è distribuita con Licenza Creative Commons Attribuzione 4.0 Internazionale.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44640" y="35323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0CA3-CF2D-4ACB-AFDB-081D491A6A99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Installazione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31640" y="1728720"/>
            <a:ext cx="8999640" cy="497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8E16-A5A2-4295-A39B-983BEAD16E8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Avvio di SSAM ed applicazione del modello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60360" y="1584360"/>
            <a:ext cx="9180360" cy="400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680F-6977-480C-BAB6-B4ABDA6B383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Setting del plugin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340000" y="1619280"/>
            <a:ext cx="498960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588C-C02E-4FAD-BC2D-4D5D9D451EA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Indicatori ambientali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340000" y="1619280"/>
            <a:ext cx="498312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1DB8-0B2E-417A-81BE-D9605C67ED3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Indicatori ecoonomici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340000" y="1619280"/>
            <a:ext cx="498960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BFB5-75C7-4728-B3CC-7A3DB7C6CB9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Indicatori sociali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340000" y="1619280"/>
            <a:ext cx="498960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01AF-3626-4D8D-A725-341E812F54D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Analisi dei risultati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340000" y="1619280"/>
            <a:ext cx="498960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3CAA-F3F4-4346-B865-E1D665C2EE4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Mappe della sostenibilità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000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079640" y="2101680"/>
            <a:ext cx="8283600" cy="468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4F9B-C116-4466-A9C6-D7AB72526E9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8T16:26:21Z</dcterms:created>
  <dc:creator/>
  <dc:description/>
  <dc:language>en-US</dc:language>
  <cp:lastModifiedBy/>
  <dcterms:modified xsi:type="dcterms:W3CDTF">2019-05-28T20:35:22Z</dcterms:modified>
  <cp:revision>10</cp:revision>
  <dc:subject/>
  <dc:title>Alizarin</dc:title>
</cp:coreProperties>
</file>