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8A3-BFFA-4BBB-826A-2066A9CB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876-0369-49D3-95B8-A841668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617-FC3E-4D90-AB5A-0EA35839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F03-04F9-4C11-99C6-91C31E59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2E78-C27F-4F8A-B1AD-EA83463F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DF9C-E224-4487-98B2-5A53D2C3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D475-D66E-49B2-BC24-7B5E2F43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EEFF-D278-46B1-88A6-ACC59AE7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4CAE-3015-4E6A-B8F4-6F9ACD70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DE5D-2CF1-48CC-90A5-381B102B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DA3-006A-46EF-9FE7-6A825577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061-7356-4A63-8783-F61C2C6D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338D-7983-4F6D-995D-5E8C7FD3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3EA0-DB4A-4335-B3A3-79AE0D8A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CB1-4DB4-4621-8597-F7D0738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A672-9AB1-42B4-97AD-126E6C19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77E2-DE09-4580-894E-8AAE2E4A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7CC-9DB5-4F48-AEFD-5530B6E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C15-1AF6-4DDF-A509-38C71B78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2E2-7671-4B24-97C9-DFCA496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2B8-4518-4A9D-B484-287C180B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65F-4F8E-4167-B8FB-6F4D18E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4A0-0A76-4F39-BDDC-95874136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E28-5C78-4E7D-A8B7-5DBC5D21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A50336B-B1A8-4F4D-AD2B-4106F9EF1734}" type="slidenum"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2DBF0F4-62EE-468C-9B05-7B136BD2E890}" type="slidenum"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L’applicativo ‘SSAM - Spatial Sustainability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ssessment Model’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07280" y="2879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1520" y="4500720"/>
            <a:ext cx="3200400" cy="123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38720" y="4584600"/>
            <a:ext cx="2968920" cy="103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280" y="6983280"/>
            <a:ext cx="6191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Gianluca Massei ### Perugia 29 – 30 maggio 2019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792000"/>
            <a:ext cx="9288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Giornate di formazi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Modelli di Valutazione Territoriale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79200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974-4A66-4A3E-8270-6CE936AD22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arr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1647720"/>
            <a:ext cx="8672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9EB-F3CF-4D44-B969-92978087AD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oll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7160" y="1839960"/>
            <a:ext cx="7962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163-8EF4-4AE3-939C-6783427C37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Cartogramma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6120" y="1979640"/>
            <a:ext cx="64692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2F5-C8BD-4FFA-83EC-78BD0BEE1F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Estrazione delle regol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040" y="1577880"/>
            <a:ext cx="9356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648-EAD8-4E0A-BA19-328906777AE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Grazie dell’atten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2" name=""/>
          <p:cNvSpPr/>
          <p:nvPr/>
        </p:nvSpPr>
        <p:spPr>
          <a:xfrm>
            <a:off x="824040" y="3489480"/>
            <a:ext cx="856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Licenza Creative Commo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Quest'opera è distribuita con Licenza Creative Commons Attribuzione 4.0 Internazionale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44640" y="35323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760-7336-4506-9184-754F5010B3FC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stalla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728720"/>
            <a:ext cx="899964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EB8-EDF7-41A6-B735-4AC6D8FAEF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vvio di SSAM ed applicazione del modello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18036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789-7B89-476A-94B2-1F3B7D238D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Setting del plugi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F1B-517F-466D-BA13-842ACC81B7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ambient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31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598-C2D1-4537-BA1A-A7914CAD42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ecoonomic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8F5-3ACB-45A9-A394-9FC7030134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soci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4DE-546B-4E8B-8E21-4D88807826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nalisi dei risultat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17C-7ADC-4D78-9CD2-7C1C58144A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Mapp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82836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745-194B-497B-90CF-B2DABBA185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6:26:21Z</dcterms:created>
  <dc:creator/>
  <dc:description/>
  <dc:language>en-US</dc:language>
  <cp:lastModifiedBy/>
  <dcterms:modified xsi:type="dcterms:W3CDTF">2019-05-28T20:35:22Z</dcterms:modified>
  <cp:revision>10</cp:revision>
  <dc:subject/>
  <dc:title>Alizarin</dc:title>
</cp:coreProperties>
</file>