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E8E-995D-4C20-8772-BA161A21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137-CE60-4E48-B6AC-90024292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7E4-5794-4EBB-BA41-DBB9BF58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A5C-2ABB-4A00-BA73-9C335553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3813-F2E3-45C7-9D19-69E3D4F5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4577-B47F-44BF-8708-2648861A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BC2-4487-4780-91CA-6B56C241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DF23-DA97-4749-8DDC-2D271C4A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FC31-3564-42CC-9D3B-B77042F0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0121-A4CF-4453-B558-F0A7A45A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986F-0BFA-4FEF-A78C-49C781CF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9A1-879E-4521-B258-9DF2357C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49B4-F5B7-4CAB-A1FE-B161A3B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2070-D7A3-4B34-802A-AE3BB704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D344-12F1-4BAF-8484-ACDEF694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E263-290C-4DA2-B007-DC5E362D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1BDF-BFFE-49BE-8421-215D38F0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BA1-2CAB-4DE8-A076-687D2245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220-260B-456D-BE64-1A34915D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F10-4E68-43AE-B2BE-6B503AE7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0B8-9D34-4CE4-95BD-6ECD8E3D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320-3BED-42CB-8AB2-C0F5DD86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463-0E6A-4E6B-8F54-A3DB7F98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C56-85D3-4EAC-8808-E2861847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F8F8EA3-3EA6-426C-8B8D-23513EAA000A}" type="slidenum"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61ED93A-2B56-4F88-86A6-A88DBF034E0C}" type="slidenum"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L’applicativo ‘SSAM - Spatial Sustainability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ssessment Model’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07280" y="2879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1520" y="4500720"/>
            <a:ext cx="3200400" cy="123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38720" y="4584600"/>
            <a:ext cx="2968920" cy="103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7280" y="6983280"/>
            <a:ext cx="6191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Gianluca Massei ### Perugia 29 – 30 maggio 2019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792000"/>
            <a:ext cx="92883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Giornate di formazi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Modelli di Valutazione Territoriale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7920000" cy="44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BFB-988F-444B-BBBB-E672E7E522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arr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6560" y="1647720"/>
            <a:ext cx="8672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B04-C225-4991-899D-A695A8D077C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oll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27160" y="1839960"/>
            <a:ext cx="796284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25F-1031-4A32-A582-31B6C8E63E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Cartogramma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16120" y="1979640"/>
            <a:ext cx="64692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F55-D842-4B91-BDBA-5B75ED1ABF3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Estrazione delle regol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040" y="1577880"/>
            <a:ext cx="935676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A76-2B95-4422-B93C-15CED2A8A0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Grazie dell’atten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2" name=""/>
          <p:cNvSpPr/>
          <p:nvPr/>
        </p:nvSpPr>
        <p:spPr>
          <a:xfrm>
            <a:off x="824040" y="3489480"/>
            <a:ext cx="85676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Licenza Creative Common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Quest'opera è distribuita con Licenza Creative Commons Attribuzione 4.0 Internazionale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44640" y="35323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422-68A9-42C0-A4AC-C95563D2226B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stalla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1640" y="1728720"/>
            <a:ext cx="899964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E81-68B4-44BA-9496-D7D15E5E7D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vvio di SSAM ed applicazione del modello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0360" y="1584360"/>
            <a:ext cx="9180360" cy="40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32A-EE71-48A3-B524-993099C63F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Setting del plugi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4A9-E58C-4455-9599-D5D0763F22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ambient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312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E8D-B258-4676-A5E9-2991231126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ecoonomic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464-4D39-4082-BB23-1DF8D8D3AE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soci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554-B87C-4D35-A535-2C9A42EDC5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nalisi dei risultat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326-8A49-4094-BF0B-272A45CF497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Mapp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82836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A97-2BEC-4D5E-B8A1-514F1BE2A5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16:26:21Z</dcterms:created>
  <dc:creator/>
  <dc:description/>
  <dc:language>en-US</dc:language>
  <cp:lastModifiedBy/>
  <dcterms:modified xsi:type="dcterms:W3CDTF">2019-05-28T20:35:22Z</dcterms:modified>
  <cp:revision>10</cp:revision>
  <dc:subject/>
  <dc:title>Alizarin</dc:title>
</cp:coreProperties>
</file>